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54C2-E3B4-4068-94F5-D6137F4C6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983E-0F23-47CF-A1B8-5B65A05E57BE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79A1-78CC-4C8A-9CF6-628CADC150A2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3416-D0A3-40B1-9DD1-7C7B1C7DEFFA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F27EA-0BF1-4561-9127-5B00E26C03FE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3FE2-E3EC-4838-B688-BE333D70842B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5050-64DF-4670-A37E-EA7581AF70A5}" type="slidenum">
              <a:rPr b="0" lang="en-US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69D-4054-493B-ABBA-FEB58D90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441F-40B6-43DA-8741-DCCB6A36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5DEB-5151-4774-B0E1-4D1BD7C8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564DC-F082-421B-A6DB-CD8C3817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1A8A7-7B93-4B75-92DD-E0603E24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BFE9E-6A0B-49C1-8D5A-39533A2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8570B-B0EB-4635-8C81-5D6C5A9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0D43F-0A60-4557-99AE-F24B1C43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7AB96-91A9-40E9-A41B-6DF6D4AB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06C72-8CD4-46A5-8139-CA8EC096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E0A18-A467-4A8E-8E3E-9D9B84B8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0221E-7E97-40D0-8BE7-FCF76955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575-E00C-4522-9E59-C34789A8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08264-F194-4B4D-9752-0311370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681F6-9331-4FA1-AD80-03CCA8B8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B3876-CE23-4FB6-A901-A89DBDBD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34C83-65B5-41F7-89EE-06111217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07F77-6A8C-4811-B383-40010C65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65CCE-5A30-490C-8C11-5EF3ADC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0385-8B1F-482D-AC8A-FF2209A3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063BE-6265-454D-B276-8F2CCE5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59DDF-E050-4A6F-9F46-8F82C30D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132E-B6B1-48DC-A976-21119E6A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C17-DD0C-42C1-A8A2-3EA19442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95A34-AB04-4B63-94F2-A30FCD21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DF488-D756-4135-8D68-7BF60185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638CF-851C-46BE-83D9-5D70D427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4F74-48C1-40F8-9A5D-46EE94A4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85029-83F1-4D68-8FF6-FDD150DF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56EC6-F237-42BB-914B-C69A2BCE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A9ACB-BE12-4F1E-BD82-A07F39D2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8D777-4BF2-40DB-A95C-04D9305B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CB745-B5BD-4A15-858F-2639BC3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9C31-1845-4293-8672-A54576A5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9A58-EA54-478E-AC5C-88575266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972B5-C30D-4E2D-9EB9-7156BFAA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487BE-5BB9-48D1-A7E0-0E9ABAA9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F3736-EC13-438A-88AA-7C0622D9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5019D-0506-4E16-9CE4-A1BAD1E5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33D07-A83A-44ED-A578-0BDA2A86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F3F4F-6F67-4FCB-AABF-4DD1F0C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FAC93-3091-4FA9-9754-96860A8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0F9BD-399B-467D-ABA1-F535BE14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6B320-7A72-4732-831B-C7C4AAE2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BBDF4-74C9-4019-A2C5-1D53F4C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5F04-3894-4046-902D-5A68B760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527D49-B8A3-4C95-8B5B-AAA4910A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63A5F-B72A-4118-BB2D-8DD32713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01208-BAB9-4264-BBB5-342C7609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202AB-F1CD-4E67-BA3F-A26756F5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B41C5-0CD8-47CB-9FF3-B5D6C912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606D5-22A9-4163-8127-A2645EA1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DBC96-A087-4D17-BDD8-CD2F53CB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5F5EB-10AB-46E9-80F4-04AC548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5E7EC-66F7-4A16-ADF3-EB085FEF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C776B-96DD-498F-9148-2E56518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C19-090E-4992-9328-500CD342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2B0AE-05DC-4716-8559-13DEE5B7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A7686-168B-4C78-A104-70BD0BCB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90DBC-76D9-43B6-B114-C3E21C53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7C536-0C3D-41E0-9E9E-6E0394C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67768-3409-4BE6-91E4-581C1070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8388E-BF2E-4051-8EE1-823CAFAC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DE11F-325C-4563-9C97-BCEE08F4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086C8-9D66-447E-8F79-E97F1B3B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FC9ED7-2E7F-4CD0-9E00-FC4E7DF0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F70F8-531D-4FB6-85F2-4666F106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2C51-CEE2-417B-8CC2-98D79715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58985-9F6F-4719-95FE-2BEDC2CF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F0655-B3A8-4B73-86FC-FA19C084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954D52-2598-40C0-BA14-F941D0CC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0A412-72BC-49D7-B8EE-74AA5A28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9D08C-CD49-4251-8DDD-036E247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3C561-42FE-4D56-91A8-8923DD7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A6BE6-9A14-4C7E-A11A-2D52B7AE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79AF1-62E2-41F9-B4A2-213440AC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EFD38-AF76-445F-8FA5-8ACDFF4B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ACDB-3FBF-4E12-8864-DFEF3EA9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B5C2-2C50-4938-BED3-E5B3EFC5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A286-4A10-4556-9C3B-284A17F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B0C-1B9C-465E-844F-58072637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FF5D-D317-4A41-A639-AD7BDAB3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94A0-8706-46FB-98F1-9835B08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97D-A198-49DF-9F48-6F355F3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12C-C866-46E5-BEE3-836EFB4F8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C840-C805-4EDF-975D-74627D60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D6C17-FD11-451B-B0C3-277C3BAF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6452-7A6D-478C-AE88-D59DBCD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AB09A-F275-4A9D-8C2A-5574F16D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F1A7-EE83-4130-9AB9-A2C36A6F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C9CB-3148-4E28-B230-B38E0DA6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3809-52D3-49A9-9ABF-32B87D91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D6F63-3688-4208-851B-6AB0781D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3BDC1-B9C1-48A7-AFF1-21D73E3B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A3504-A852-44BE-879F-AFB18945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27A2C-E0C6-4149-AD34-DD434071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C9D6E-F145-4434-A0D9-C3B28D5B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B584-00B5-4072-ABA5-3CFBC464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24E84-3A6E-453F-8018-98FEC083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78982-F256-4E7C-93B2-82BA5296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9D36A-330A-486F-B990-9E59DF32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805A-F821-4ECA-8FE2-99BA1B34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F5C-9187-4961-8AAD-D4679D8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E9A0-792C-48AD-81AC-10CDEEF7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10B55-C4C5-480F-BDF3-57F6C7ED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E387-A372-4988-BD61-0971AD79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4E7E3-588D-4DAC-BD81-8231C33E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E3BDB-BAA2-4311-9459-F10999D2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F019-0451-4776-930C-F5783813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1C42C-D4AB-4DC6-8F71-7417A51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D89ED-35C0-4CB4-9615-2E3BD4B2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B25E-440A-4E8E-A388-8E4C65A8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1CCE2-6FC7-4659-9B1D-EC8DB6C8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E037-7B9C-42B7-9008-48F1CF74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528B4-4B9B-4E1F-AEDA-671C1960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8305-DEF5-418A-AE33-6F80AAA4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410E7-3622-4CE6-BD1C-726D2FFC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BEBE7-7C9D-43F6-8F8D-8987264D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79050-60C3-4C8D-9568-734ADFAB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DDD54-757C-4790-B95F-5B42A926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BBF79-6315-4917-9E66-9B121B2B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41F54-0906-412C-A1AC-45C55BD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4382C-FCC0-4D27-B526-C785E58F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A01F3-097E-4AEA-A531-D2654A33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621-867F-4945-BC11-D206D0DD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7461-7867-44BA-994F-3026100B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136B6-7B94-4926-98A0-7A92C002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945D-E027-417C-9FFF-C6DCD907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B73EE-A02E-418D-9FFC-ED56B4C2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6AAD-1FD1-4EA2-B21A-E0478083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06877-05CE-46E0-A0A6-49C27308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8CF2-9335-4C88-BB06-7CC28517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EE4C5-D787-4745-AF98-0B428692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AA143-94A5-4F42-AFC2-974E1A8C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C6283-5A18-4FBB-A1FE-AAA00820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069-3B74-49D6-B38A-3525997E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84205-204F-40F6-923C-AAD0850F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70688-2D52-4DB4-AF75-7B0335F2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63998-1CCD-46E8-8CEA-82FFD328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854D3-B449-4FD4-9A8A-4900D78F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609B0-A090-45FA-BEE2-75835507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1CF32-DFA7-405C-87DF-A3EBEFBC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5A328-FE4C-450E-B855-986B6D03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BD250-B417-4659-B487-4049F150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A4C0-0F95-4F55-AF45-DCF3DBA4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A3A7D-24E2-48C3-9057-5981972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546-0501-4F5B-8EEE-C47935EB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A4626-2579-40A0-AAC4-62EA4BB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CD2E3-DE07-4C18-BA52-EB6B8A36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43AC6-60FF-4304-B614-13284146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5569-618B-4EBC-ADF7-15408C4C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0BB8-A9FB-4137-8A89-66CEB4D4B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4C261-958A-4027-BA9B-1C073516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3C82C-C4BA-4B3A-9352-A734E94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E0CF4-2859-4ACB-858A-8C43A331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5BFF1-E18A-4BBE-B251-A5DADF15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C2A7D4-5889-427A-A1B3-9F7AF335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051-6DA9-4D4F-85E3-4BC0791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7DBB-AEE9-4C77-8AB0-127E5143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22530-B44B-48A0-8D7E-C00EA4D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C9FAB-D003-457B-BC27-5A7CC448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380EC-4C96-4B05-BA04-DD379C65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29163-EDCB-44B1-ACF3-6E92453E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26A24-A912-4880-A389-03825B03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79E4-8FF4-4CCC-BB4C-E5391CA1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845AD-64AE-43E2-9142-E9925E811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66B51-669D-4780-836A-FF191E3B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8822F-E576-4F7D-91A8-45027D0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3" descr="leaves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CD40-C8FF-48A8-B192-D7879E47A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0FC5-448F-4783-957A-123B21FB8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77AE-6317-4C00-95F2-E32F19DB9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1E1-D965-40E1-AE26-DC62831C0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3305-A25F-493D-8BC5-DAB813135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816-39E5-4D4A-9BBA-FE2EE310D658}" type="slidenum">
              <a:rPr b="0" lang="en-US" sz="1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7" descr="leaves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B7DE-5843-4235-812E-D18A0AA9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A3FD-C932-4809-AC7E-54A75B7D0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974A-4827-4313-8ABD-8690B006B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551F-762E-4B9B-A9FD-68CD6E821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6578-C133-40D8-BA71-489A8EAC3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C77B-B6CE-436E-A97B-C8A05303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4224-C90F-4638-B219-ACBB1AA0F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a5a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7108-9D73-4A1C-8BAD-6B0CE36F3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5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586" name="Group 1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587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88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89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0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591" name="Text Box 60"/>
          <p:cNvSpPr/>
          <p:nvPr/>
        </p:nvSpPr>
        <p:spPr>
          <a:xfrm>
            <a:off x="-162000" y="2085840"/>
            <a:ext cx="9468000" cy="14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dfff4"/>
                </a:solidFill>
                <a:latin typeface="Calibri"/>
              </a:rPr>
              <a:t>Missoula County Public Schools</a:t>
            </a:r>
            <a:endParaRPr b="0" lang="en-US" sz="5200" spc="-1" strike="noStrike">
              <a:solidFill>
                <a:srgbClr val="b2b2b2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ff4"/>
                </a:solidFill>
                <a:latin typeface="Calibri"/>
              </a:rPr>
              <a:t>HERE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3586320" y="4041720"/>
            <a:ext cx="1971360" cy="236052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8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594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5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6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597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df7"/>
                </a:solidFill>
                <a:latin typeface="Arial"/>
              </a:rPr>
              <a:t>BULLETS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2fdf7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2fdf7"/>
                </a:solidFill>
                <a:latin typeface="Arial"/>
              </a:rPr>
              <a:t>Bullet Poin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2fdf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2fdf7"/>
                </a:solidFill>
                <a:latin typeface="Arial"/>
              </a:rPr>
              <a:t>Sub Bullet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Group 10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602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03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04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05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2fdf7"/>
                </a:solidFill>
                <a:latin typeface="Arial"/>
              </a:rPr>
              <a:t>CHART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graphicFrame>
        <p:nvGraphicFramePr>
          <p:cNvPr id="607" name="Object 3"/>
          <p:cNvGraphicFramePr/>
          <p:nvPr/>
        </p:nvGraphicFramePr>
        <p:xfrm>
          <a:off x="2027160" y="1125360"/>
          <a:ext cx="6062760" cy="37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7160" y="1125360"/>
                    <a:ext cx="606276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9" name="Picture 2" descr=""/>
          <p:cNvPicPr/>
          <p:nvPr/>
        </p:nvPicPr>
        <p:blipFill>
          <a:blip r:embed="rId3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11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611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12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13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14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2fdf7"/>
                </a:solidFill>
                <a:latin typeface="Arial"/>
              </a:rPr>
              <a:t>PICTURE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16" name="Rectangle 32"/>
          <p:cNvSpPr/>
          <p:nvPr/>
        </p:nvSpPr>
        <p:spPr>
          <a:xfrm rot="2700000">
            <a:off x="8267040" y="80028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7" name="Rectangle 33"/>
          <p:cNvSpPr/>
          <p:nvPr/>
        </p:nvSpPr>
        <p:spPr>
          <a:xfrm rot="2700000">
            <a:off x="799560" y="567720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8" name="Rectangle 34"/>
          <p:cNvSpPr/>
          <p:nvPr/>
        </p:nvSpPr>
        <p:spPr>
          <a:xfrm flipH="1" rot="18900000">
            <a:off x="8266320" y="560088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9" name="Rectangle 35"/>
          <p:cNvSpPr/>
          <p:nvPr/>
        </p:nvSpPr>
        <p:spPr>
          <a:xfrm flipH="1" rot="18900000">
            <a:off x="798840" y="846360"/>
            <a:ext cx="457200" cy="1143000"/>
          </a:xfrm>
          <a:prstGeom prst="rect">
            <a:avLst/>
          </a:prstGeom>
          <a:solidFill>
            <a:srgbClr val="49992d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10"/>
          <p:cNvGrpSpPr/>
          <p:nvPr/>
        </p:nvGrpSpPr>
        <p:grpSpPr>
          <a:xfrm>
            <a:off x="0" y="0"/>
            <a:ext cx="9144000" cy="6921360"/>
            <a:chOff x="0" y="0"/>
            <a:chExt cx="9144000" cy="6921360"/>
          </a:xfrm>
        </p:grpSpPr>
        <p:sp>
          <p:nvSpPr>
            <p:cNvPr id="622" name="Rectangle 61"/>
            <p:cNvSpPr/>
            <p:nvPr/>
          </p:nvSpPr>
          <p:spPr>
            <a:xfrm>
              <a:off x="2735640" y="220824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3" name="Rectangle 54"/>
            <p:cNvSpPr/>
            <p:nvPr/>
          </p:nvSpPr>
          <p:spPr>
            <a:xfrm>
              <a:off x="0" y="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4" name="Rectangle 62"/>
            <p:cNvSpPr/>
            <p:nvPr/>
          </p:nvSpPr>
          <p:spPr>
            <a:xfrm>
              <a:off x="0" y="220824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25" name="Rectangle 63"/>
            <p:cNvSpPr/>
            <p:nvPr/>
          </p:nvSpPr>
          <p:spPr>
            <a:xfrm>
              <a:off x="2735640" y="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2fdf7"/>
                </a:solidFill>
                <a:latin typeface="Arial"/>
              </a:rPr>
              <a:t>Examples </a:t>
            </a:r>
            <a:br>
              <a:rPr sz="4400"/>
            </a:br>
            <a:r>
              <a:rPr b="0" lang="en-GB" sz="4400" spc="-1" strike="noStrike">
                <a:solidFill>
                  <a:srgbClr val="f2fdf7"/>
                </a:solidFill>
                <a:latin typeface="Arial"/>
              </a:rPr>
              <a:t>of default styles</a:t>
            </a:r>
            <a:endParaRPr b="0" lang="en-US" sz="4400" spc="-1" strike="noStrike">
              <a:solidFill>
                <a:srgbClr val="a5a5a5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514600" y="183312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2fdf7"/>
                </a:solidFill>
                <a:latin typeface="Arial"/>
              </a:rPr>
              <a:t>Text and lines are like th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2fdf7"/>
                </a:solidFill>
                <a:uFillTx/>
                <a:latin typeface="Arial"/>
              </a:rPr>
              <a:t>Hyperlinks like th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2fd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2fdf7"/>
                </a:solidFill>
                <a:uFillTx/>
                <a:latin typeface="Arial"/>
              </a:rPr>
              <a:t>Visited hyperlinks like thi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056200" y="4876920"/>
          <a:ext cx="3630600" cy="174924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8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1368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b2b2b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1368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3680">
                      <a:solidFill>
                        <a:srgbClr val="b2b2b2"/>
                      </a:solidFill>
                    </a:lnB>
                    <a:solidFill>
                      <a:srgbClr val="ff008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29" name="Rectangle 15"/>
          <p:cNvSpPr/>
          <p:nvPr/>
        </p:nvSpPr>
        <p:spPr>
          <a:xfrm>
            <a:off x="1008000" y="5121360"/>
            <a:ext cx="2232000" cy="1368360"/>
          </a:xfrm>
          <a:prstGeom prst="rect">
            <a:avLst/>
          </a:prstGeom>
          <a:solidFill>
            <a:srgbClr val="49992d">
              <a:alpha val="41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2b2b2"/>
                </a:solidFill>
                <a:latin typeface="Arial"/>
              </a:rPr>
              <a:t>Text box</a:t>
            </a: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9c947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632" name="Group 9"/>
          <p:cNvGrpSpPr/>
          <p:nvPr/>
        </p:nvGrpSpPr>
        <p:grpSpPr>
          <a:xfrm>
            <a:off x="0" y="-31680"/>
            <a:ext cx="9144000" cy="6921360"/>
            <a:chOff x="0" y="-31680"/>
            <a:chExt cx="9144000" cy="6921360"/>
          </a:xfrm>
        </p:grpSpPr>
        <p:sp>
          <p:nvSpPr>
            <p:cNvPr id="633" name="Rectangle 61"/>
            <p:cNvSpPr/>
            <p:nvPr/>
          </p:nvSpPr>
          <p:spPr>
            <a:xfrm>
              <a:off x="2735640" y="2176560"/>
              <a:ext cx="6408360" cy="4713120"/>
            </a:xfrm>
            <a:prstGeom prst="rect">
              <a:avLst/>
            </a:prstGeom>
            <a:solidFill>
              <a:srgbClr val="ffff99">
                <a:alpha val="29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4" name="Rectangle 54"/>
            <p:cNvSpPr/>
            <p:nvPr/>
          </p:nvSpPr>
          <p:spPr>
            <a:xfrm>
              <a:off x="0" y="-31680"/>
              <a:ext cx="6156360" cy="4648320"/>
            </a:xfrm>
            <a:prstGeom prst="rect">
              <a:avLst/>
            </a:prstGeom>
            <a:solidFill>
              <a:srgbClr val="1d530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5" name="Rectangle 62"/>
            <p:cNvSpPr/>
            <p:nvPr/>
          </p:nvSpPr>
          <p:spPr>
            <a:xfrm>
              <a:off x="0" y="2176560"/>
              <a:ext cx="6156360" cy="4649760"/>
            </a:xfrm>
            <a:prstGeom prst="rect">
              <a:avLst/>
            </a:prstGeom>
            <a:solidFill>
              <a:srgbClr val="39a612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  <p:sp>
          <p:nvSpPr>
            <p:cNvPr id="636" name="Rectangle 63"/>
            <p:cNvSpPr/>
            <p:nvPr/>
          </p:nvSpPr>
          <p:spPr>
            <a:xfrm>
              <a:off x="2735640" y="-31680"/>
              <a:ext cx="6408360" cy="4648320"/>
            </a:xfrm>
            <a:prstGeom prst="rect">
              <a:avLst/>
            </a:prstGeom>
            <a:solidFill>
              <a:srgbClr val="99cc00">
                <a:alpha val="29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b2b2b2"/>
                </a:solidFill>
                <a:latin typeface="Arial"/>
              </a:endParaRPr>
            </a:p>
          </p:txBody>
        </p:sp>
      </p:grpSp>
      <p:sp>
        <p:nvSpPr>
          <p:cNvPr id="637" name="Rectangle 2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2fdf7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8159760" y="5697360"/>
            <a:ext cx="909720" cy="108936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Information Systems Center</cp:lastModifiedBy>
  <dcterms:modified xsi:type="dcterms:W3CDTF">2015-03-26T22:03:24Z</dcterms:modified>
  <cp:revision>68</cp:revision>
  <dc:subject/>
  <dc:title>Leaves Coloured Template</dc:title>
</cp:coreProperties>
</file>